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B62-0E19-48AC-AA71-0AD24C06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521-CF55-4F6C-896C-27858532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873-0B49-4D75-AB40-F8C48AA0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58B-C785-427E-B39A-52FA64D3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B3C-645A-4A25-B850-9C1E2CD0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C3F-3183-4292-9F0C-4690786A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228-4761-4C6A-8A12-C7EAA3D1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60C-BC02-483A-BB44-1F1DF1D2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318-AC0C-46AB-A00E-835A00CD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F35-5E0C-46EE-9528-759832B3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358-81FF-401A-8562-0BC874F4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04F-75FC-4391-820D-EEC114AD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32E8-1BD4-4AE6-B677-417DA2BC5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cross to the gr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grave to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ove sing your prai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, everyday I lift your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, everyday I lift your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ove sing your prai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I’m so glad you’re my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I’m so glad you came to save 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You came from heaven to ear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To show the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earth to the cro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My debt to p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cross to the gr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grave to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ove sing your prai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I’m so glad you’re my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I’m so glad you came to save 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You came from heaven to ear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To show the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earth to the cro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My debt to p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cross to the gr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grave to the sk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 on hi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, everyday I lift your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Lord I lift your name, everyday I lift your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You came from heaven to ear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To show the 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From the earth to the cro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oper Black"/>
              </a:rPr>
              <a:t>My debt to p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20:23:36Z</dcterms:created>
  <dc:creator>DG</dc:creator>
  <dc:description/>
  <dc:language>en-US</dc:language>
  <cp:lastModifiedBy>DG</cp:lastModifiedBy>
  <dcterms:modified xsi:type="dcterms:W3CDTF">2007-08-04T20:24:39Z</dcterms:modified>
  <cp:revision>2</cp:revision>
  <dc:subject/>
  <dc:title>Lord I lift your name on high</dc:title>
</cp:coreProperties>
</file>